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C69-CEFC-462F-91FB-C99046C6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6B6-82C7-4593-9A14-1180D7C8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6BF-79AC-4218-B1EA-8EB314C2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B45-C2A5-4547-A1D0-EA4DD3BA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661-CA3D-40D4-B842-01F9D1B2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EBE-41F0-4D13-BB5E-C8E591D7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81D-DC30-4B48-B3E2-31E51F34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68D-C226-48DF-A5AA-E07424EC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35C-0BB1-41BD-9D6D-6A2B8E25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75D-E72E-4703-B23C-FC51CA7D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986-02BD-4F6E-9790-C28C689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DB3-0B0A-45A3-BB31-19EA634F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D0CB-E502-41A6-9356-CB6AB5237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ortal.saschina.org/" TargetMode="External"/><Relationship Id="rId2" Type="http://schemas.openxmlformats.org/officeDocument/2006/relationships/hyperlink" Target="http://portal.saschina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hyperlink" Target="http://www.wikispaces.com/" TargetMode="External"/><Relationship Id="rId3" Type="http://schemas.openxmlformats.org/officeDocument/2006/relationships/image" Target="../media/image4.png"/><Relationship Id="rId4" Type="http://schemas.openxmlformats.org/officeDocument/2006/relationships/hyperlink" Target="mailto:username@sasstudent.org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62120" y="4572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Grade Tech Toolbox Walk-th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90720" y="15238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 web browser open and a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ortal.saschina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Picture 4.png"/>
          <p:cNvPicPr/>
          <p:nvPr/>
        </p:nvPicPr>
        <p:blipFill>
          <a:blip r:embed="rId3"/>
          <a:srcRect l="49463" t="0" r="0" b="0"/>
          <a:stretch/>
        </p:blipFill>
        <p:spPr>
          <a:xfrm>
            <a:off x="2819520" y="1981080"/>
            <a:ext cx="2514600" cy="2043360"/>
          </a:xfrm>
          <a:prstGeom prst="rect">
            <a:avLst/>
          </a:prstGeom>
          <a:ln w="0">
            <a:noFill/>
          </a:ln>
        </p:spPr>
      </p:pic>
      <p:cxnSp>
        <p:nvCxnSpPr>
          <p:cNvPr id="44" name="Straight Arrow Connector 10"/>
          <p:cNvCxnSpPr/>
          <p:nvPr/>
        </p:nvCxnSpPr>
        <p:spPr>
          <a:xfrm>
            <a:off x="2362320" y="2057040"/>
            <a:ext cx="1829520" cy="1067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" name=""/>
          <p:cNvSpPr/>
          <p:nvPr/>
        </p:nvSpPr>
        <p:spPr>
          <a:xfrm>
            <a:off x="0" y="5562720"/>
            <a:ext cx="9144000" cy="9144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066680" y="4267080"/>
            <a:ext cx="72392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 Use the list and tell students thei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user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 which will b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irst name/px/2014     eg. jackiepx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. Passwords are all set to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hangha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se accounts are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  <a:ea typeface="宋体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yet able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end or receive email. You need to sign the A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1600200"/>
            <a:ext cx="502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f students are not prompted to change their password, they should 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b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Pass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s should be longer th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racters and contain a numb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Once they do this, they can log out and return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clicking on the browser’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Your student email address DOES NOT end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gmail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685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nging Your Email Pass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5775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. It is username@sasstude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914400" y="685800"/>
            <a:ext cx="7467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e Your Moodle Ac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Return to the Portal at http://portal.saschina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Click on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od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ab at the to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On the right hand side of the screen underne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log-in, click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e new accou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Follow the prompts on the screen. Be sure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rname that is used for your Gmail account. Keep all usernames and passwords the sa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Picture 1.png"/>
          <p:cNvPicPr/>
          <p:nvPr/>
        </p:nvPicPr>
        <p:blipFill>
          <a:blip r:embed="rId1"/>
          <a:stretch/>
        </p:blipFill>
        <p:spPr>
          <a:xfrm>
            <a:off x="990720" y="1981080"/>
            <a:ext cx="4572000" cy="99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icture 2.png"/>
          <p:cNvPicPr/>
          <p:nvPr/>
        </p:nvPicPr>
        <p:blipFill>
          <a:blip r:embed="rId2"/>
          <a:stretch/>
        </p:blipFill>
        <p:spPr>
          <a:xfrm>
            <a:off x="5943600" y="3124080"/>
            <a:ext cx="1444680" cy="1828800"/>
          </a:xfrm>
          <a:prstGeom prst="rect">
            <a:avLst/>
          </a:prstGeom>
          <a:ln w="0">
            <a:noFill/>
          </a:ln>
        </p:spPr>
      </p:pic>
      <p:cxnSp>
        <p:nvCxnSpPr>
          <p:cNvPr id="53" name="Straight Arrow Connector 7"/>
          <p:cNvCxnSpPr/>
          <p:nvPr/>
        </p:nvCxnSpPr>
        <p:spPr>
          <a:xfrm>
            <a:off x="4495680" y="3962520"/>
            <a:ext cx="1448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"/>
          <p:cNvSpPr/>
          <p:nvPr/>
        </p:nvSpPr>
        <p:spPr>
          <a:xfrm>
            <a:off x="990720" y="59436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Do NOT go and check your email for confirmation of your accou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04960" y="175248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762120" y="7621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reate a Wikispaces Ac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838080" y="16002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browser address window, typ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wikispace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Picture 7.png"/>
          <p:cNvPicPr/>
          <p:nvPr/>
        </p:nvPicPr>
        <p:blipFill>
          <a:blip r:embed="rId3"/>
          <a:stretch/>
        </p:blipFill>
        <p:spPr>
          <a:xfrm>
            <a:off x="5029200" y="2057400"/>
            <a:ext cx="2475000" cy="2629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914400" y="2743200"/>
            <a:ext cx="3809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Enter your new accoun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rnam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ssword that you used for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udent email accou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jackiepx201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your new email address. It will 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username@sasstudent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Do NOT go and check your e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confirmation of your accou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410080" y="68580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SKIP THIS PART FOR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7"/>
          <p:cNvCxnSpPr/>
          <p:nvPr/>
        </p:nvCxnSpPr>
        <p:spPr>
          <a:xfrm flipH="1">
            <a:off x="6019920" y="2057040"/>
            <a:ext cx="70524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33520"/>
            <a:ext cx="9144000" cy="9144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85800"/>
            <a:ext cx="792468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cklist for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ged in successfully to my student email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nged my pas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ated a Moodle account with my user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ated a Wikispaces accou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th the same user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38680" y="4419720"/>
            <a:ext cx="2971800" cy="221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67280" y="209520"/>
            <a:ext cx="27813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03:59:14Z</dcterms:created>
  <dc:creator>User</dc:creator>
  <dc:description/>
  <dc:language>en-US</dc:language>
  <cp:lastModifiedBy>SAS</cp:lastModifiedBy>
  <dcterms:modified xsi:type="dcterms:W3CDTF">2008-08-25T07:31:16Z</dcterms:modified>
  <cp:revision>24</cp:revision>
  <dc:subject/>
  <dc:title>Slide 1</dc:title>
</cp:coreProperties>
</file>